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AE6-421D-4FA4-97C0-016A963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BAD-99FB-4F02-B91E-2C426DC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B11-5F30-4EF4-B2F7-8FB44B5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148-D185-4A08-92F1-DB2A4583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736C-C737-4FC0-B8E1-2ADC8443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3D21-85D5-43F9-9AE8-BEBEE00F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2712-A30A-4185-B042-1040595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7DB4-63DA-4843-BBAC-63948708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F97-9FC0-4C19-8E30-37643C5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A112-F232-4785-8E04-049B92C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4DD2-6F49-4725-B9AE-976F944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829-78DE-4D8D-B824-9CB648B9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89D-9CCE-4878-90CF-056B731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F03-50EE-45F5-9E6F-9AE4EDDC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2884-6007-40E3-A338-598E1902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F132-4991-4D43-AA0F-15E9376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DFFF-B374-4F38-A9D0-9F3B6B30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C820-5DBB-4558-BA47-13CCEB69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3344-08FE-4466-8A69-59CB466A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AA6B-AEF1-4F4D-8DE3-3608A27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FE3B-D665-44F2-964A-B400A262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5330-5E3A-4E3A-996C-1029D42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315-8A25-48C3-BD7C-6915FC98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9493-F963-48C3-9993-E4CD60F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B707-A3AE-4665-910C-86BBD8B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A68B-AD87-4A53-AADD-A96E998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CFF7-86CF-44D9-9439-94165C1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EBAE-7B92-42C2-8B4B-3672A49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07B1-8B46-433D-B832-C342AF6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31CF-791F-47E5-9841-97EA2BD5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EC2-5B76-4FA6-9BE2-2D2C68E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A5C-EEAA-4044-A603-E1E3383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39B-542A-4955-B09A-EA8FD06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961-62D9-4E21-B72F-39EC978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41E-B2A8-4042-9498-327530C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1E5-B476-40E1-B62A-7CFCC59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82B-24FA-4CEC-B919-00FDF5DF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24D3-D2E6-4D6E-AEF2-1A4FCF9748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A6BE-AAB4-49D2-B312-D74DE8730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bc.ca/gfx/images/news/photos/2008/05/19/obama-cp-4876151.jpg&amp;imgrefurl=http://www.cbc.ca/canada/story/2008/05/19/democratic-primaries.html&amp;h=349&amp;w=584&amp;sz=108&amp;hl=en&amp;start=2&amp;tbnid=Dx3gthFRiIl3YM:&amp;tbnh=81&amp;tbnw=135&amp;prev=/images%3Fq%3D%2BObama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arackObama-Basketball.JPE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92360" y="765000"/>
            <a:ext cx="381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2276640"/>
            <a:ext cx="424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620720"/>
            <a:ext cx="9144000" cy="5237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03280" y="333360"/>
            <a:ext cx="60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Showcard Gothic"/>
              </a:rPr>
              <a:t>O  B  A  M 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18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Showcard Gothic"/>
              </a:rPr>
              <a:t>OBAMA ’S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844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1773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25360"/>
            <a:ext cx="882000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arack Hussein Obama  was born  on 4  August in 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orn to a Kenyan father and a white American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He spent most of his childhood and teenage years in Honolulu, Hawa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He got married to Michelle Obama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he first daughter, Malia Ann was born in 1998, and the second daughter, Natasha(“Sasha”) in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F HIS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here politicla party are the democra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residence( Kenwood), Chicago,Illin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profession: atto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religion is Christi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 is a junior se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37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24000" y="18900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BAMA'S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ama before a crow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734400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AMA WITH HIL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 FOR OB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424160"/>
            <a:ext cx="882000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BAMA PLAYING BASKETBA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" descr="Obama playing basketball with U.S. military in Djibouti in 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341360"/>
            <a:ext cx="3684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sunción Garc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4542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3:34Z</dcterms:created>
  <dc:creator>Los Tilos</dc:creator>
  <dc:description/>
  <dc:language>en-US</dc:language>
  <cp:lastModifiedBy>Los Tilos</cp:lastModifiedBy>
  <dcterms:modified xsi:type="dcterms:W3CDTF">2008-06-09T08:09:46Z</dcterms:modified>
  <cp:revision>4</cp:revision>
  <dc:subject/>
  <dc:title>Diapositiva 1</dc:title>
</cp:coreProperties>
</file>